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FDE-ABE5-404B-913B-D0B6385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754-D62C-4B44-BC90-62BF95F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C44-67D9-49C1-96AE-AA9E150D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45C-E976-4A10-9EDF-A2CF176A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076-7B59-43D7-9843-5863192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123-1FA3-4814-916B-8892EB1A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61F-4C6E-4F0D-86BF-9A72F60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743-F178-407D-A5AB-336CB0A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FF7-A4C9-429B-BD02-3968E1D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851-E085-4BA3-9D84-A39A577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741-E4BA-4BE1-A87D-68D9CA50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C3F-FECC-49E9-AA4E-B36E334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888-DF91-45DC-AB82-6FDB1603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7280" y="285840"/>
            <a:ext cx="1009440" cy="9586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60680" y="981000"/>
            <a:ext cx="2222640" cy="4464000"/>
          </a:xfrm>
          <a:prstGeom prst="upArrow">
            <a:avLst>
              <a:gd name="adj1" fmla="val 11000"/>
              <a:gd name="adj2" fmla="val 165490"/>
            </a:avLst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919680"/>
            <a:ext cx="431640" cy="431640"/>
          </a:xfrm>
          <a:prstGeom prst="ellipse">
            <a:avLst/>
          </a:prstGeom>
          <a:gradFill rotWithShape="0">
            <a:gsLst>
              <a:gs pos="0">
                <a:srgbClr val="54c8d4"/>
              </a:gs>
              <a:gs pos="100000">
                <a:srgbClr val="265c6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7920" y="4113360"/>
            <a:ext cx="431640" cy="431640"/>
          </a:xfrm>
          <a:prstGeom prst="ellipse">
            <a:avLst/>
          </a:prstGeom>
          <a:gradFill rotWithShape="0">
            <a:gsLst>
              <a:gs pos="0">
                <a:srgbClr val="f9a5c9"/>
              </a:gs>
              <a:gs pos="100000">
                <a:srgbClr val="724c5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52960" y="296064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95880" y="2095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75040" y="3321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203480"/>
            <a:ext cx="2446200" cy="3473280"/>
          </a:xfrm>
          <a:custGeom>
            <a:avLst/>
            <a:gdLst/>
            <a:ahLst/>
            <a:rect l="l" t="t" r="r" b="b"/>
            <a:pathLst>
              <a:path w="1541" h="2188">
                <a:moveTo>
                  <a:pt x="861" y="0"/>
                </a:moveTo>
                <a:cubicBezTo>
                  <a:pt x="807" y="45"/>
                  <a:pt x="506" y="170"/>
                  <a:pt x="544" y="268"/>
                </a:cubicBezTo>
                <a:cubicBezTo>
                  <a:pt x="582" y="366"/>
                  <a:pt x="1035" y="473"/>
                  <a:pt x="1088" y="586"/>
                </a:cubicBezTo>
                <a:cubicBezTo>
                  <a:pt x="1141" y="699"/>
                  <a:pt x="989" y="850"/>
                  <a:pt x="861" y="948"/>
                </a:cubicBezTo>
                <a:cubicBezTo>
                  <a:pt x="733" y="1046"/>
                  <a:pt x="362" y="1077"/>
                  <a:pt x="317" y="1175"/>
                </a:cubicBezTo>
                <a:cubicBezTo>
                  <a:pt x="272" y="1273"/>
                  <a:pt x="438" y="1447"/>
                  <a:pt x="589" y="1538"/>
                </a:cubicBezTo>
                <a:cubicBezTo>
                  <a:pt x="740" y="1629"/>
                  <a:pt x="1073" y="1644"/>
                  <a:pt x="1224" y="1720"/>
                </a:cubicBezTo>
                <a:cubicBezTo>
                  <a:pt x="1375" y="1796"/>
                  <a:pt x="1541" y="1917"/>
                  <a:pt x="1496" y="1992"/>
                </a:cubicBezTo>
                <a:cubicBezTo>
                  <a:pt x="1451" y="2067"/>
                  <a:pt x="1179" y="2158"/>
                  <a:pt x="952" y="2173"/>
                </a:cubicBezTo>
                <a:cubicBezTo>
                  <a:pt x="725" y="2188"/>
                  <a:pt x="272" y="2127"/>
                  <a:pt x="136" y="2082"/>
                </a:cubicBezTo>
                <a:cubicBezTo>
                  <a:pt x="0" y="2037"/>
                  <a:pt x="121" y="1946"/>
                  <a:pt x="136" y="1901"/>
                </a:cubicBezTo>
                <a:cubicBezTo>
                  <a:pt x="151" y="1856"/>
                  <a:pt x="211" y="1825"/>
                  <a:pt x="226" y="1810"/>
                </a:cubicBezTo>
              </a:path>
            </a:pathLst>
          </a:custGeom>
          <a:noFill/>
          <a:ln w="50760">
            <a:solidFill>
              <a:srgbClr val="f9a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15:12Z</dcterms:created>
  <dc:creator>student2</dc:creator>
  <dc:description/>
  <dc:language>en-US</dc:language>
  <cp:lastModifiedBy>student2</cp:lastModifiedBy>
  <dcterms:modified xsi:type="dcterms:W3CDTF">2008-12-10T14:16:18Z</dcterms:modified>
  <cp:revision>2</cp:revision>
  <dc:subject/>
  <dc:title>Diapositive 1</dc:title>
</cp:coreProperties>
</file>